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48E0D-F48D-43BE-BCC1-53B06E9A6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2F6B5-84EC-4733-9F15-435376CB8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8A4A0-71F9-4657-B938-56D9004DC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8718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82594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842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48718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82594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64573-5ABE-4317-A3F1-266978E55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F3983-BEB7-428F-8B31-697A61AB0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7A0A4-158F-4701-AC50-8CBF8B1C0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CB818-1264-47DA-B360-BA02419F5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0063C-EAE4-4DF2-B39D-23BCBC1DF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72EFF-763D-47AD-9232-80EEA3BC0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1484280" y="685800"/>
            <a:ext cx="10018800" cy="81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B268E-70EC-4D5C-BACE-6F8E78A7C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151B2-5B2D-4B53-A030-118F974AB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EB46E-916A-4212-ABF9-458C88011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5B164-E104-4718-9318-278BBA746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2617E-DC43-45C7-B1A6-07744C767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E4D18-C77E-4C2B-AF8A-18EC8BC24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411D4-4DA6-4EE9-BF9D-AA2FEE73D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8718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82594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14842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48718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82594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AF0DA-5318-4074-9C2A-CDBAF067B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E204C7-502D-47ED-B608-A77B795C1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E2A3C7-68F1-44E5-B782-3B9C11F61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7A052C-307B-4AA2-830F-055548780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61BA7A-C3AB-4C30-A008-14606D2B5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660064-D2DD-4495-A433-85DFBCFCF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398EB-0943-42CF-B49F-93C979CC3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484280" y="685800"/>
            <a:ext cx="10018800" cy="81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3A8FFF-3D65-40F0-ACB0-2A26BBD0D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462C99-670E-42C2-BD59-CC2D543E1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DFCD11-3E66-44AD-8E65-EEB871679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25AF53-BAA3-4574-961F-E9691CE8B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2B2749-FD06-48FA-9A0F-0A95A0003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577511-53FD-479A-B0FE-9A46E0A31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8718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2594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14842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48718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82594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500D23-9A03-4A85-BEB3-85508B2FE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61DD7A-EF7C-4A71-85A3-FD16D462A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2EA869-A8C7-4603-83FD-218CD928D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D3D4F8-CA98-42F7-8C14-7192CE79D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63517-D566-406B-B892-42F523C3E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ECF102-B2A1-49A8-BB85-38236F566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160C92-390D-4318-B984-56A90DE5B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1484280" y="685800"/>
            <a:ext cx="10018800" cy="81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FA0FA0-4E0C-42EE-ABF4-038FD8D35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BACF1D-70BC-46D4-ACBA-CBC3482B6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7D0B3D-A166-4511-ACEF-288C413F4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E7996A-82A9-4999-8E51-1A04C3BC6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DFBB19-6F0C-4B4D-B922-C3180B518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FAA5B6-F7D0-43A2-89D4-A190E3475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8718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82594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14842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48718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82594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31CC9A-AEF9-47C1-B6A8-000FE5F57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0D44A0-D5A2-4800-8F96-170FD1904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92D9E-515F-430C-BAB1-F39879224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757AFC-DE00-4EAC-8511-166315DD9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89790C-5E40-4BB1-990B-F2A5510CA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57D17E-3389-49D1-BB4A-CC642FD62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0F84CA-8933-4503-ABFA-25D2022EA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1484280" y="685800"/>
            <a:ext cx="10018800" cy="81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141CD5-3762-4B85-9A2D-799E0070A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039E45-D48B-4CF4-8495-10B878C89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FAA89E-B7C1-4CE4-83DD-55A46D146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083496-16F3-4899-862B-487D137CE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F106A3-3277-4570-A022-BD1D26F0A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2FA991-AA9E-4277-A09A-87ABDCEBE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84280" y="685800"/>
            <a:ext cx="10018800" cy="81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E159B-07C7-44AF-B260-20ACF1364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8718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82594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14842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48718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82594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58E7A4-B5C6-4E26-B3F1-3D00BFE7E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48F95-501A-462F-8E3A-14E750E4E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14EB6-16CD-4774-84B7-09677F568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902B9-5222-4705-8807-6D3249AEF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"/>
          <p:cNvGrpSpPr/>
          <p:nvPr/>
        </p:nvGrpSpPr>
        <p:grpSpPr>
          <a:xfrm>
            <a:off x="150840" y="0"/>
            <a:ext cx="2436840" cy="6858000"/>
            <a:chOff x="150840" y="0"/>
            <a:chExt cx="2436840" cy="6858000"/>
          </a:xfrm>
        </p:grpSpPr>
        <p:sp>
          <p:nvSpPr>
            <p:cNvPr id="1" name="Freeform 6"/>
            <p:cNvSpPr/>
            <p:nvPr/>
          </p:nvSpPr>
          <p:spPr>
            <a:xfrm>
              <a:off x="457200" y="0"/>
              <a:ext cx="1122480" cy="5329440"/>
            </a:xfrm>
            <a:custGeom>
              <a:avLst/>
              <a:gdLst>
                <a:gd name="textAreaLeft" fmla="*/ 0 w 1122480"/>
                <a:gd name="textAreaRight" fmla="*/ 1122840 w 1122480"/>
                <a:gd name="textAreaTop" fmla="*/ 0 h 5329440"/>
                <a:gd name="textAreaBottom" fmla="*/ 5329440 h 5329440"/>
              </a:gdLst>
              <a:ahLst/>
              <a:rect l="textAreaLeft" t="textAreaTop" r="textAreaRight" b="textAreaBottom"/>
              <a:pathLst>
                <a:path w="707" h="3357">
                  <a:moveTo>
                    <a:pt x="0" y="3330"/>
                  </a:moveTo>
                  <a:lnTo>
                    <a:pt x="156" y="3357"/>
                  </a:lnTo>
                  <a:lnTo>
                    <a:pt x="707" y="0"/>
                  </a:lnTo>
                  <a:lnTo>
                    <a:pt x="547" y="0"/>
                  </a:lnTo>
                  <a:lnTo>
                    <a:pt x="0" y="3330"/>
                  </a:lnTo>
                  <a:close/>
                </a:path>
              </a:pathLst>
            </a:custGeom>
            <a:solidFill>
              <a:srgbClr val="30a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7"/>
            <p:cNvSpPr/>
            <p:nvPr/>
          </p:nvSpPr>
          <p:spPr>
            <a:xfrm>
              <a:off x="150840" y="0"/>
              <a:ext cx="1117440" cy="5276880"/>
            </a:xfrm>
            <a:custGeom>
              <a:avLst/>
              <a:gdLst/>
              <a:ahLst/>
              <a:rect l="l" t="t" r="r" b="b"/>
              <a:pathLst>
                <a:path w="704" h="3324">
                  <a:moveTo>
                    <a:pt x="704" y="0"/>
                  </a:moveTo>
                  <a:lnTo>
                    <a:pt x="545" y="0"/>
                  </a:lnTo>
                  <a:lnTo>
                    <a:pt x="0" y="3300"/>
                  </a:lnTo>
                  <a:lnTo>
                    <a:pt x="157" y="3324"/>
                  </a:lnTo>
                  <a:lnTo>
                    <a:pt x="704" y="0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8"/>
            <p:cNvSpPr/>
            <p:nvPr/>
          </p:nvSpPr>
          <p:spPr>
            <a:xfrm>
              <a:off x="150840" y="5238720"/>
              <a:ext cx="1228680" cy="1619280"/>
            </a:xfrm>
            <a:custGeom>
              <a:avLst/>
              <a:gdLst/>
              <a:ahLst/>
              <a:rect l="l" t="t" r="r" b="b"/>
              <a:pathLst>
                <a:path w="774" h="1020">
                  <a:moveTo>
                    <a:pt x="0" y="0"/>
                  </a:moveTo>
                  <a:lnTo>
                    <a:pt x="740" y="1020"/>
                  </a:lnTo>
                  <a:lnTo>
                    <a:pt x="774" y="10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457200" y="5291280"/>
              <a:ext cx="1495440" cy="1566720"/>
            </a:xfrm>
            <a:custGeom>
              <a:avLst/>
              <a:gdLst/>
              <a:ahLst/>
              <a:rect l="l" t="t" r="r" b="b"/>
              <a:pathLst>
                <a:path w="942" h="987">
                  <a:moveTo>
                    <a:pt x="0" y="0"/>
                  </a:moveTo>
                  <a:lnTo>
                    <a:pt x="909" y="987"/>
                  </a:lnTo>
                  <a:lnTo>
                    <a:pt x="942" y="98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c5a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457200" y="5286600"/>
              <a:ext cx="2130480" cy="1571400"/>
            </a:xfrm>
            <a:custGeom>
              <a:avLst/>
              <a:gdLst/>
              <a:ahLst/>
              <a:rect l="l" t="t" r="r" b="b"/>
              <a:pathLst>
                <a:path w="1342" h="990">
                  <a:moveTo>
                    <a:pt x="0" y="3"/>
                  </a:moveTo>
                  <a:lnTo>
                    <a:pt x="942" y="990"/>
                  </a:lnTo>
                  <a:lnTo>
                    <a:pt x="1342" y="990"/>
                  </a:lnTo>
                  <a:lnTo>
                    <a:pt x="156" y="27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1287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150840" y="5238720"/>
              <a:ext cx="1695600" cy="1619280"/>
            </a:xfrm>
            <a:custGeom>
              <a:avLst/>
              <a:gdLst/>
              <a:ahLst/>
              <a:rect l="l" t="t" r="r" b="b"/>
              <a:pathLst>
                <a:path w="1068" h="1020">
                  <a:moveTo>
                    <a:pt x="1068" y="1020"/>
                  </a:moveTo>
                  <a:lnTo>
                    <a:pt x="184" y="60"/>
                  </a:lnTo>
                  <a:lnTo>
                    <a:pt x="154" y="27"/>
                  </a:lnTo>
                  <a:lnTo>
                    <a:pt x="157" y="27"/>
                  </a:lnTo>
                  <a:lnTo>
                    <a:pt x="157" y="24"/>
                  </a:lnTo>
                  <a:lnTo>
                    <a:pt x="154" y="24"/>
                  </a:lnTo>
                  <a:lnTo>
                    <a:pt x="0" y="0"/>
                  </a:lnTo>
                  <a:lnTo>
                    <a:pt x="0" y="0"/>
                  </a:lnTo>
                  <a:lnTo>
                    <a:pt x="774" y="1020"/>
                  </a:lnTo>
                  <a:lnTo>
                    <a:pt x="1068" y="1020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87000"/>
          </a:bodyPr>
          <a:p>
            <a:pPr marL="248400" indent="-24840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46200" indent="-24840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1044000" indent="-24840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3" marL="1342080" indent="-1490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4" marL="1739880" indent="-1490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5" marL="1739880" indent="-14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6" marL="1739880" indent="-14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732600" y="5882760"/>
            <a:ext cx="114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orbe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2571840" y="5882760"/>
            <a:ext cx="70848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10952280" y="5882760"/>
            <a:ext cx="5508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B0986-5661-44B1-AD7C-BC98BE277689}" type="slidenum">
              <a:rPr b="0" lang="ru-RU" sz="10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18"/>
          <p:cNvGrpSpPr/>
          <p:nvPr/>
        </p:nvGrpSpPr>
        <p:grpSpPr>
          <a:xfrm>
            <a:off x="546120" y="-4680"/>
            <a:ext cx="5014800" cy="6862680"/>
            <a:chOff x="546120" y="-4680"/>
            <a:chExt cx="5014800" cy="6862680"/>
          </a:xfrm>
        </p:grpSpPr>
        <p:sp>
          <p:nvSpPr>
            <p:cNvPr id="49" name="Freeform 6"/>
            <p:cNvSpPr/>
            <p:nvPr/>
          </p:nvSpPr>
          <p:spPr>
            <a:xfrm>
              <a:off x="984240" y="-4680"/>
              <a:ext cx="1063440" cy="2782800"/>
            </a:xfrm>
            <a:custGeom>
              <a:avLst/>
              <a:gdLst>
                <a:gd name="textAreaLeft" fmla="*/ 0 w 1063440"/>
                <a:gd name="textAreaRight" fmla="*/ 1063800 w 1063440"/>
                <a:gd name="textAreaTop" fmla="*/ 0 h 2782800"/>
                <a:gd name="textAreaBottom" fmla="*/ 2783160 h 2782800"/>
              </a:gdLst>
              <a:ahLst/>
              <a:rect l="textAreaLeft" t="textAreaTop" r="textAreaRight" b="textAreaBottom"/>
              <a:pathLst>
                <a:path w="670" h="1753">
                  <a:moveTo>
                    <a:pt x="0" y="1696"/>
                  </a:moveTo>
                  <a:lnTo>
                    <a:pt x="225" y="1753"/>
                  </a:lnTo>
                  <a:lnTo>
                    <a:pt x="670" y="0"/>
                  </a:lnTo>
                  <a:lnTo>
                    <a:pt x="430" y="0"/>
                  </a:lnTo>
                  <a:lnTo>
                    <a:pt x="0" y="1696"/>
                  </a:lnTo>
                  <a:close/>
                </a:path>
              </a:pathLst>
            </a:custGeom>
            <a:solidFill>
              <a:srgbClr val="30a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7"/>
            <p:cNvSpPr/>
            <p:nvPr/>
          </p:nvSpPr>
          <p:spPr>
            <a:xfrm>
              <a:off x="546120" y="-4680"/>
              <a:ext cx="1035000" cy="2673360"/>
            </a:xfrm>
            <a:custGeom>
              <a:avLst/>
              <a:gdLst/>
              <a:ahLst/>
              <a:rect l="l" t="t" r="r" b="b"/>
              <a:pathLst>
                <a:path w="652" h="1684">
                  <a:moveTo>
                    <a:pt x="225" y="1684"/>
                  </a:moveTo>
                  <a:lnTo>
                    <a:pt x="652" y="0"/>
                  </a:lnTo>
                  <a:lnTo>
                    <a:pt x="411" y="0"/>
                  </a:lnTo>
                  <a:lnTo>
                    <a:pt x="0" y="1627"/>
                  </a:lnTo>
                  <a:lnTo>
                    <a:pt x="219" y="1681"/>
                  </a:lnTo>
                  <a:lnTo>
                    <a:pt x="225" y="1684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9"/>
            <p:cNvSpPr/>
            <p:nvPr/>
          </p:nvSpPr>
          <p:spPr>
            <a:xfrm>
              <a:off x="546120" y="2583000"/>
              <a:ext cx="2693880" cy="4275000"/>
            </a:xfrm>
            <a:custGeom>
              <a:avLst/>
              <a:gdLst/>
              <a:ahLst/>
              <a:rect l="l" t="t" r="r" b="b"/>
              <a:pathLst>
                <a:path w="1697" h="2693">
                  <a:moveTo>
                    <a:pt x="0" y="0"/>
                  </a:moveTo>
                  <a:lnTo>
                    <a:pt x="1622" y="2693"/>
                  </a:lnTo>
                  <a:lnTo>
                    <a:pt x="1697" y="269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10"/>
            <p:cNvSpPr/>
            <p:nvPr/>
          </p:nvSpPr>
          <p:spPr>
            <a:xfrm>
              <a:off x="988920" y="2692440"/>
              <a:ext cx="3332160" cy="4165560"/>
            </a:xfrm>
            <a:custGeom>
              <a:avLst/>
              <a:gdLst/>
              <a:ahLst/>
              <a:rect l="l" t="t" r="r" b="b"/>
              <a:pathLst>
                <a:path w="2099" h="2624">
                  <a:moveTo>
                    <a:pt x="2099" y="2624"/>
                  </a:moveTo>
                  <a:lnTo>
                    <a:pt x="0" y="0"/>
                  </a:lnTo>
                  <a:lnTo>
                    <a:pt x="2021" y="2624"/>
                  </a:lnTo>
                  <a:lnTo>
                    <a:pt x="2099" y="2624"/>
                  </a:lnTo>
                  <a:close/>
                </a:path>
              </a:pathLst>
            </a:custGeom>
            <a:solidFill>
              <a:srgbClr val="0c5a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11"/>
            <p:cNvSpPr/>
            <p:nvPr/>
          </p:nvSpPr>
          <p:spPr>
            <a:xfrm>
              <a:off x="984240" y="2687760"/>
              <a:ext cx="4576680" cy="4170240"/>
            </a:xfrm>
            <a:custGeom>
              <a:avLst/>
              <a:gdLst/>
              <a:ahLst/>
              <a:rect l="l" t="t" r="r" b="b"/>
              <a:pathLst>
                <a:path w="2883" h="2627">
                  <a:moveTo>
                    <a:pt x="0" y="0"/>
                  </a:moveTo>
                  <a:lnTo>
                    <a:pt x="3" y="3"/>
                  </a:lnTo>
                  <a:lnTo>
                    <a:pt x="2102" y="2627"/>
                  </a:lnTo>
                  <a:lnTo>
                    <a:pt x="2883" y="2627"/>
                  </a:lnTo>
                  <a:lnTo>
                    <a:pt x="225" y="5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87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2"/>
            <p:cNvSpPr/>
            <p:nvPr/>
          </p:nvSpPr>
          <p:spPr>
            <a:xfrm>
              <a:off x="546120" y="2577960"/>
              <a:ext cx="3584520" cy="4280040"/>
            </a:xfrm>
            <a:custGeom>
              <a:avLst/>
              <a:gdLst/>
              <a:ahLst/>
              <a:rect l="l" t="t" r="r" b="b"/>
              <a:pathLst>
                <a:path w="2258" h="2696">
                  <a:moveTo>
                    <a:pt x="2258" y="2696"/>
                  </a:moveTo>
                  <a:lnTo>
                    <a:pt x="264" y="111"/>
                  </a:lnTo>
                  <a:lnTo>
                    <a:pt x="228" y="60"/>
                  </a:lnTo>
                  <a:lnTo>
                    <a:pt x="225" y="57"/>
                  </a:lnTo>
                  <a:lnTo>
                    <a:pt x="0" y="0"/>
                  </a:lnTo>
                  <a:lnTo>
                    <a:pt x="0" y="3"/>
                  </a:lnTo>
                  <a:lnTo>
                    <a:pt x="1697" y="2696"/>
                  </a:lnTo>
                  <a:lnTo>
                    <a:pt x="2258" y="2696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87000"/>
          </a:bodyPr>
          <a:p>
            <a:pPr marL="248400" indent="-24840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46200" indent="-24840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1044000" indent="-24840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3" marL="1342080" indent="-1490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4" marL="1739880" indent="-1490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5" marL="1739880" indent="-14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6" marL="1739880" indent="-14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9732600" y="5882760"/>
            <a:ext cx="114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orbe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5332320" y="5882760"/>
            <a:ext cx="4324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10952280" y="5882760"/>
            <a:ext cx="5508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691A3-9B8E-45DC-AB85-7B2A22165AA1}" type="slidenum">
              <a:rPr b="0" lang="ru-RU" sz="10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6"/>
          <p:cNvGrpSpPr/>
          <p:nvPr/>
        </p:nvGrpSpPr>
        <p:grpSpPr>
          <a:xfrm>
            <a:off x="150840" y="0"/>
            <a:ext cx="2436840" cy="6858000"/>
            <a:chOff x="150840" y="0"/>
            <a:chExt cx="2436840" cy="6858000"/>
          </a:xfrm>
        </p:grpSpPr>
        <p:sp>
          <p:nvSpPr>
            <p:cNvPr id="97" name="Freeform 6"/>
            <p:cNvSpPr/>
            <p:nvPr/>
          </p:nvSpPr>
          <p:spPr>
            <a:xfrm>
              <a:off x="457200" y="0"/>
              <a:ext cx="1122480" cy="5329440"/>
            </a:xfrm>
            <a:custGeom>
              <a:avLst/>
              <a:gdLst>
                <a:gd name="textAreaLeft" fmla="*/ 0 w 1122480"/>
                <a:gd name="textAreaRight" fmla="*/ 1122840 w 1122480"/>
                <a:gd name="textAreaTop" fmla="*/ 0 h 5329440"/>
                <a:gd name="textAreaBottom" fmla="*/ 5329440 h 5329440"/>
              </a:gdLst>
              <a:ahLst/>
              <a:rect l="textAreaLeft" t="textAreaTop" r="textAreaRight" b="textAreaBottom"/>
              <a:pathLst>
                <a:path w="707" h="3357">
                  <a:moveTo>
                    <a:pt x="0" y="3330"/>
                  </a:moveTo>
                  <a:lnTo>
                    <a:pt x="156" y="3357"/>
                  </a:lnTo>
                  <a:lnTo>
                    <a:pt x="707" y="0"/>
                  </a:lnTo>
                  <a:lnTo>
                    <a:pt x="547" y="0"/>
                  </a:lnTo>
                  <a:lnTo>
                    <a:pt x="0" y="3330"/>
                  </a:lnTo>
                  <a:close/>
                </a:path>
              </a:pathLst>
            </a:custGeom>
            <a:solidFill>
              <a:srgbClr val="30a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7"/>
            <p:cNvSpPr/>
            <p:nvPr/>
          </p:nvSpPr>
          <p:spPr>
            <a:xfrm>
              <a:off x="150840" y="0"/>
              <a:ext cx="1117440" cy="5276880"/>
            </a:xfrm>
            <a:custGeom>
              <a:avLst/>
              <a:gdLst/>
              <a:ahLst/>
              <a:rect l="l" t="t" r="r" b="b"/>
              <a:pathLst>
                <a:path w="704" h="3324">
                  <a:moveTo>
                    <a:pt x="704" y="0"/>
                  </a:moveTo>
                  <a:lnTo>
                    <a:pt x="545" y="0"/>
                  </a:lnTo>
                  <a:lnTo>
                    <a:pt x="0" y="3300"/>
                  </a:lnTo>
                  <a:lnTo>
                    <a:pt x="157" y="3324"/>
                  </a:lnTo>
                  <a:lnTo>
                    <a:pt x="704" y="0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8"/>
            <p:cNvSpPr/>
            <p:nvPr/>
          </p:nvSpPr>
          <p:spPr>
            <a:xfrm>
              <a:off x="150840" y="5238720"/>
              <a:ext cx="1228680" cy="1619280"/>
            </a:xfrm>
            <a:custGeom>
              <a:avLst/>
              <a:gdLst/>
              <a:ahLst/>
              <a:rect l="l" t="t" r="r" b="b"/>
              <a:pathLst>
                <a:path w="774" h="1020">
                  <a:moveTo>
                    <a:pt x="0" y="0"/>
                  </a:moveTo>
                  <a:lnTo>
                    <a:pt x="740" y="1020"/>
                  </a:lnTo>
                  <a:lnTo>
                    <a:pt x="774" y="10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9"/>
            <p:cNvSpPr/>
            <p:nvPr/>
          </p:nvSpPr>
          <p:spPr>
            <a:xfrm>
              <a:off x="457200" y="5291280"/>
              <a:ext cx="1495440" cy="1566720"/>
            </a:xfrm>
            <a:custGeom>
              <a:avLst/>
              <a:gdLst/>
              <a:ahLst/>
              <a:rect l="l" t="t" r="r" b="b"/>
              <a:pathLst>
                <a:path w="942" h="987">
                  <a:moveTo>
                    <a:pt x="0" y="0"/>
                  </a:moveTo>
                  <a:lnTo>
                    <a:pt x="909" y="987"/>
                  </a:lnTo>
                  <a:lnTo>
                    <a:pt x="942" y="98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c5a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10"/>
            <p:cNvSpPr/>
            <p:nvPr/>
          </p:nvSpPr>
          <p:spPr>
            <a:xfrm>
              <a:off x="457200" y="5286600"/>
              <a:ext cx="2130480" cy="1571400"/>
            </a:xfrm>
            <a:custGeom>
              <a:avLst/>
              <a:gdLst/>
              <a:ahLst/>
              <a:rect l="l" t="t" r="r" b="b"/>
              <a:pathLst>
                <a:path w="1342" h="990">
                  <a:moveTo>
                    <a:pt x="0" y="3"/>
                  </a:moveTo>
                  <a:lnTo>
                    <a:pt x="942" y="990"/>
                  </a:lnTo>
                  <a:lnTo>
                    <a:pt x="1342" y="990"/>
                  </a:lnTo>
                  <a:lnTo>
                    <a:pt x="156" y="27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1287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11"/>
            <p:cNvSpPr/>
            <p:nvPr/>
          </p:nvSpPr>
          <p:spPr>
            <a:xfrm>
              <a:off x="150840" y="5238720"/>
              <a:ext cx="1695600" cy="1619280"/>
            </a:xfrm>
            <a:custGeom>
              <a:avLst/>
              <a:gdLst/>
              <a:ahLst/>
              <a:rect l="l" t="t" r="r" b="b"/>
              <a:pathLst>
                <a:path w="1068" h="1020">
                  <a:moveTo>
                    <a:pt x="1068" y="1020"/>
                  </a:moveTo>
                  <a:lnTo>
                    <a:pt x="184" y="60"/>
                  </a:lnTo>
                  <a:lnTo>
                    <a:pt x="154" y="27"/>
                  </a:lnTo>
                  <a:lnTo>
                    <a:pt x="157" y="27"/>
                  </a:lnTo>
                  <a:lnTo>
                    <a:pt x="157" y="24"/>
                  </a:lnTo>
                  <a:lnTo>
                    <a:pt x="154" y="24"/>
                  </a:lnTo>
                  <a:lnTo>
                    <a:pt x="0" y="0"/>
                  </a:lnTo>
                  <a:lnTo>
                    <a:pt x="0" y="0"/>
                  </a:lnTo>
                  <a:lnTo>
                    <a:pt x="774" y="1020"/>
                  </a:lnTo>
                  <a:lnTo>
                    <a:pt x="1068" y="1020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87000"/>
          </a:bodyPr>
          <a:p>
            <a:pPr marL="248400" indent="-24840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46200" indent="-24840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1044000" indent="-24840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3" marL="1342080" indent="-1490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4" marL="1739880" indent="-1490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5" marL="1739880" indent="-14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6" marL="1739880" indent="-14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9732600" y="5882760"/>
            <a:ext cx="114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orbe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2571840" y="5882760"/>
            <a:ext cx="70848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10952280" y="5866920"/>
            <a:ext cx="5508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37058-6E5C-4E1F-8FC1-FAD1F2036BB0}" type="slidenum">
              <a:rPr b="0" lang="ru-RU" sz="10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Group 6"/>
          <p:cNvGrpSpPr/>
          <p:nvPr/>
        </p:nvGrpSpPr>
        <p:grpSpPr>
          <a:xfrm>
            <a:off x="150840" y="0"/>
            <a:ext cx="2436840" cy="6858000"/>
            <a:chOff x="150840" y="0"/>
            <a:chExt cx="2436840" cy="6858000"/>
          </a:xfrm>
        </p:grpSpPr>
        <p:sp>
          <p:nvSpPr>
            <p:cNvPr id="145" name="Freeform 6"/>
            <p:cNvSpPr/>
            <p:nvPr/>
          </p:nvSpPr>
          <p:spPr>
            <a:xfrm>
              <a:off x="457200" y="0"/>
              <a:ext cx="1122480" cy="5329440"/>
            </a:xfrm>
            <a:custGeom>
              <a:avLst/>
              <a:gdLst>
                <a:gd name="textAreaLeft" fmla="*/ 0 w 1122480"/>
                <a:gd name="textAreaRight" fmla="*/ 1122840 w 1122480"/>
                <a:gd name="textAreaTop" fmla="*/ 0 h 5329440"/>
                <a:gd name="textAreaBottom" fmla="*/ 5329440 h 5329440"/>
              </a:gdLst>
              <a:ahLst/>
              <a:rect l="textAreaLeft" t="textAreaTop" r="textAreaRight" b="textAreaBottom"/>
              <a:pathLst>
                <a:path w="707" h="3357">
                  <a:moveTo>
                    <a:pt x="0" y="3330"/>
                  </a:moveTo>
                  <a:lnTo>
                    <a:pt x="156" y="3357"/>
                  </a:lnTo>
                  <a:lnTo>
                    <a:pt x="707" y="0"/>
                  </a:lnTo>
                  <a:lnTo>
                    <a:pt x="547" y="0"/>
                  </a:lnTo>
                  <a:lnTo>
                    <a:pt x="0" y="3330"/>
                  </a:lnTo>
                  <a:close/>
                </a:path>
              </a:pathLst>
            </a:custGeom>
            <a:solidFill>
              <a:srgbClr val="30a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7"/>
            <p:cNvSpPr/>
            <p:nvPr/>
          </p:nvSpPr>
          <p:spPr>
            <a:xfrm>
              <a:off x="150840" y="0"/>
              <a:ext cx="1117440" cy="5276880"/>
            </a:xfrm>
            <a:custGeom>
              <a:avLst/>
              <a:gdLst/>
              <a:ahLst/>
              <a:rect l="l" t="t" r="r" b="b"/>
              <a:pathLst>
                <a:path w="704" h="3324">
                  <a:moveTo>
                    <a:pt x="704" y="0"/>
                  </a:moveTo>
                  <a:lnTo>
                    <a:pt x="545" y="0"/>
                  </a:lnTo>
                  <a:lnTo>
                    <a:pt x="0" y="3300"/>
                  </a:lnTo>
                  <a:lnTo>
                    <a:pt x="157" y="3324"/>
                  </a:lnTo>
                  <a:lnTo>
                    <a:pt x="704" y="0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8"/>
            <p:cNvSpPr/>
            <p:nvPr/>
          </p:nvSpPr>
          <p:spPr>
            <a:xfrm>
              <a:off x="150840" y="5238720"/>
              <a:ext cx="1228680" cy="1619280"/>
            </a:xfrm>
            <a:custGeom>
              <a:avLst/>
              <a:gdLst/>
              <a:ahLst/>
              <a:rect l="l" t="t" r="r" b="b"/>
              <a:pathLst>
                <a:path w="774" h="1020">
                  <a:moveTo>
                    <a:pt x="0" y="0"/>
                  </a:moveTo>
                  <a:lnTo>
                    <a:pt x="740" y="1020"/>
                  </a:lnTo>
                  <a:lnTo>
                    <a:pt x="774" y="10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9"/>
            <p:cNvSpPr/>
            <p:nvPr/>
          </p:nvSpPr>
          <p:spPr>
            <a:xfrm>
              <a:off x="457200" y="5291280"/>
              <a:ext cx="1495440" cy="1566720"/>
            </a:xfrm>
            <a:custGeom>
              <a:avLst/>
              <a:gdLst/>
              <a:ahLst/>
              <a:rect l="l" t="t" r="r" b="b"/>
              <a:pathLst>
                <a:path w="942" h="987">
                  <a:moveTo>
                    <a:pt x="0" y="0"/>
                  </a:moveTo>
                  <a:lnTo>
                    <a:pt x="909" y="987"/>
                  </a:lnTo>
                  <a:lnTo>
                    <a:pt x="942" y="98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c5a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457200" y="5286600"/>
              <a:ext cx="2130480" cy="1571400"/>
            </a:xfrm>
            <a:custGeom>
              <a:avLst/>
              <a:gdLst/>
              <a:ahLst/>
              <a:rect l="l" t="t" r="r" b="b"/>
              <a:pathLst>
                <a:path w="1342" h="990">
                  <a:moveTo>
                    <a:pt x="0" y="3"/>
                  </a:moveTo>
                  <a:lnTo>
                    <a:pt x="942" y="990"/>
                  </a:lnTo>
                  <a:lnTo>
                    <a:pt x="1342" y="990"/>
                  </a:lnTo>
                  <a:lnTo>
                    <a:pt x="156" y="27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1287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11"/>
            <p:cNvSpPr/>
            <p:nvPr/>
          </p:nvSpPr>
          <p:spPr>
            <a:xfrm>
              <a:off x="150840" y="5238720"/>
              <a:ext cx="1695600" cy="1619280"/>
            </a:xfrm>
            <a:custGeom>
              <a:avLst/>
              <a:gdLst/>
              <a:ahLst/>
              <a:rect l="l" t="t" r="r" b="b"/>
              <a:pathLst>
                <a:path w="1068" h="1020">
                  <a:moveTo>
                    <a:pt x="1068" y="1020"/>
                  </a:moveTo>
                  <a:lnTo>
                    <a:pt x="184" y="60"/>
                  </a:lnTo>
                  <a:lnTo>
                    <a:pt x="154" y="27"/>
                  </a:lnTo>
                  <a:lnTo>
                    <a:pt x="157" y="27"/>
                  </a:lnTo>
                  <a:lnTo>
                    <a:pt x="157" y="24"/>
                  </a:lnTo>
                  <a:lnTo>
                    <a:pt x="154" y="24"/>
                  </a:lnTo>
                  <a:lnTo>
                    <a:pt x="0" y="0"/>
                  </a:lnTo>
                  <a:lnTo>
                    <a:pt x="0" y="0"/>
                  </a:lnTo>
                  <a:lnTo>
                    <a:pt x="774" y="1020"/>
                  </a:lnTo>
                  <a:lnTo>
                    <a:pt x="1068" y="1020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TextBox 13"/>
          <p:cNvSpPr/>
          <p:nvPr/>
        </p:nvSpPr>
        <p:spPr>
          <a:xfrm>
            <a:off x="1598760" y="86364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orbe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14"/>
          <p:cNvSpPr/>
          <p:nvPr/>
        </p:nvSpPr>
        <p:spPr>
          <a:xfrm>
            <a:off x="10893600" y="2819520"/>
            <a:ext cx="60948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orbe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87000"/>
          </a:bodyPr>
          <a:p>
            <a:pPr marL="248400" indent="-24840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46200" indent="-24840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1044000" indent="-24840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3" marL="1342080" indent="-1490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4" marL="1739880" indent="-1490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5" marL="1739880" indent="-14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6" marL="1739880" indent="-14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dt" idx="10"/>
          </p:nvPr>
        </p:nvSpPr>
        <p:spPr>
          <a:xfrm>
            <a:off x="9732600" y="5882760"/>
            <a:ext cx="114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orbe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ftr" idx="11"/>
          </p:nvPr>
        </p:nvSpPr>
        <p:spPr>
          <a:xfrm>
            <a:off x="2571840" y="5882760"/>
            <a:ext cx="70848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sldNum" idx="12"/>
          </p:nvPr>
        </p:nvSpPr>
        <p:spPr>
          <a:xfrm>
            <a:off x="10952280" y="5882760"/>
            <a:ext cx="5508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68415-E21D-476F-8CD7-FAE1F005E802}" type="slidenum">
              <a:rPr b="0" lang="ru-RU" sz="10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Group 6"/>
          <p:cNvGrpSpPr/>
          <p:nvPr/>
        </p:nvGrpSpPr>
        <p:grpSpPr>
          <a:xfrm>
            <a:off x="150840" y="0"/>
            <a:ext cx="2436840" cy="6858000"/>
            <a:chOff x="150840" y="0"/>
            <a:chExt cx="2436840" cy="6858000"/>
          </a:xfrm>
        </p:grpSpPr>
        <p:sp>
          <p:nvSpPr>
            <p:cNvPr id="195" name="Freeform 6"/>
            <p:cNvSpPr/>
            <p:nvPr/>
          </p:nvSpPr>
          <p:spPr>
            <a:xfrm>
              <a:off x="457200" y="0"/>
              <a:ext cx="1122480" cy="5329440"/>
            </a:xfrm>
            <a:custGeom>
              <a:avLst/>
              <a:gdLst>
                <a:gd name="textAreaLeft" fmla="*/ 0 w 1122480"/>
                <a:gd name="textAreaRight" fmla="*/ 1122840 w 1122480"/>
                <a:gd name="textAreaTop" fmla="*/ 0 h 5329440"/>
                <a:gd name="textAreaBottom" fmla="*/ 5329440 h 5329440"/>
              </a:gdLst>
              <a:ahLst/>
              <a:rect l="textAreaLeft" t="textAreaTop" r="textAreaRight" b="textAreaBottom"/>
              <a:pathLst>
                <a:path w="707" h="3357">
                  <a:moveTo>
                    <a:pt x="0" y="3330"/>
                  </a:moveTo>
                  <a:lnTo>
                    <a:pt x="156" y="3357"/>
                  </a:lnTo>
                  <a:lnTo>
                    <a:pt x="707" y="0"/>
                  </a:lnTo>
                  <a:lnTo>
                    <a:pt x="547" y="0"/>
                  </a:lnTo>
                  <a:lnTo>
                    <a:pt x="0" y="3330"/>
                  </a:lnTo>
                  <a:close/>
                </a:path>
              </a:pathLst>
            </a:custGeom>
            <a:solidFill>
              <a:srgbClr val="30a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7"/>
            <p:cNvSpPr/>
            <p:nvPr/>
          </p:nvSpPr>
          <p:spPr>
            <a:xfrm>
              <a:off x="150840" y="0"/>
              <a:ext cx="1117440" cy="5276880"/>
            </a:xfrm>
            <a:custGeom>
              <a:avLst/>
              <a:gdLst/>
              <a:ahLst/>
              <a:rect l="l" t="t" r="r" b="b"/>
              <a:pathLst>
                <a:path w="704" h="3324">
                  <a:moveTo>
                    <a:pt x="704" y="0"/>
                  </a:moveTo>
                  <a:lnTo>
                    <a:pt x="545" y="0"/>
                  </a:lnTo>
                  <a:lnTo>
                    <a:pt x="0" y="3300"/>
                  </a:lnTo>
                  <a:lnTo>
                    <a:pt x="157" y="3324"/>
                  </a:lnTo>
                  <a:lnTo>
                    <a:pt x="704" y="0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8"/>
            <p:cNvSpPr/>
            <p:nvPr/>
          </p:nvSpPr>
          <p:spPr>
            <a:xfrm>
              <a:off x="150840" y="5238720"/>
              <a:ext cx="1228680" cy="1619280"/>
            </a:xfrm>
            <a:custGeom>
              <a:avLst/>
              <a:gdLst/>
              <a:ahLst/>
              <a:rect l="l" t="t" r="r" b="b"/>
              <a:pathLst>
                <a:path w="774" h="1020">
                  <a:moveTo>
                    <a:pt x="0" y="0"/>
                  </a:moveTo>
                  <a:lnTo>
                    <a:pt x="740" y="1020"/>
                  </a:lnTo>
                  <a:lnTo>
                    <a:pt x="774" y="10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9"/>
            <p:cNvSpPr/>
            <p:nvPr/>
          </p:nvSpPr>
          <p:spPr>
            <a:xfrm>
              <a:off x="457200" y="5291280"/>
              <a:ext cx="1495440" cy="1566720"/>
            </a:xfrm>
            <a:custGeom>
              <a:avLst/>
              <a:gdLst/>
              <a:ahLst/>
              <a:rect l="l" t="t" r="r" b="b"/>
              <a:pathLst>
                <a:path w="942" h="987">
                  <a:moveTo>
                    <a:pt x="0" y="0"/>
                  </a:moveTo>
                  <a:lnTo>
                    <a:pt x="909" y="987"/>
                  </a:lnTo>
                  <a:lnTo>
                    <a:pt x="942" y="98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c5a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10"/>
            <p:cNvSpPr/>
            <p:nvPr/>
          </p:nvSpPr>
          <p:spPr>
            <a:xfrm>
              <a:off x="457200" y="5286600"/>
              <a:ext cx="2130480" cy="1571400"/>
            </a:xfrm>
            <a:custGeom>
              <a:avLst/>
              <a:gdLst/>
              <a:ahLst/>
              <a:rect l="l" t="t" r="r" b="b"/>
              <a:pathLst>
                <a:path w="1342" h="990">
                  <a:moveTo>
                    <a:pt x="0" y="3"/>
                  </a:moveTo>
                  <a:lnTo>
                    <a:pt x="942" y="990"/>
                  </a:lnTo>
                  <a:lnTo>
                    <a:pt x="1342" y="990"/>
                  </a:lnTo>
                  <a:lnTo>
                    <a:pt x="156" y="27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1287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11"/>
            <p:cNvSpPr/>
            <p:nvPr/>
          </p:nvSpPr>
          <p:spPr>
            <a:xfrm>
              <a:off x="150840" y="5238720"/>
              <a:ext cx="1695600" cy="1619280"/>
            </a:xfrm>
            <a:custGeom>
              <a:avLst/>
              <a:gdLst/>
              <a:ahLst/>
              <a:rect l="l" t="t" r="r" b="b"/>
              <a:pathLst>
                <a:path w="1068" h="1020">
                  <a:moveTo>
                    <a:pt x="1068" y="1020"/>
                  </a:moveTo>
                  <a:lnTo>
                    <a:pt x="184" y="60"/>
                  </a:lnTo>
                  <a:lnTo>
                    <a:pt x="154" y="27"/>
                  </a:lnTo>
                  <a:lnTo>
                    <a:pt x="157" y="27"/>
                  </a:lnTo>
                  <a:lnTo>
                    <a:pt x="157" y="24"/>
                  </a:lnTo>
                  <a:lnTo>
                    <a:pt x="154" y="24"/>
                  </a:lnTo>
                  <a:lnTo>
                    <a:pt x="0" y="0"/>
                  </a:lnTo>
                  <a:lnTo>
                    <a:pt x="0" y="0"/>
                  </a:lnTo>
                  <a:lnTo>
                    <a:pt x="774" y="1020"/>
                  </a:lnTo>
                  <a:lnTo>
                    <a:pt x="1068" y="1020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" name="TextBox 13"/>
          <p:cNvSpPr/>
          <p:nvPr/>
        </p:nvSpPr>
        <p:spPr>
          <a:xfrm>
            <a:off x="1598760" y="86364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orbe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Box 14"/>
          <p:cNvSpPr/>
          <p:nvPr/>
        </p:nvSpPr>
        <p:spPr>
          <a:xfrm>
            <a:off x="10893600" y="2819520"/>
            <a:ext cx="60948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orbe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87000"/>
          </a:bodyPr>
          <a:p>
            <a:pPr marL="248400" indent="-24840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46200" indent="-24840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1044000" indent="-24840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3" marL="1342080" indent="-1490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4" marL="1739880" indent="-1490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5" marL="1739880" indent="-14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6" marL="1739880" indent="-14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dt" idx="13"/>
          </p:nvPr>
        </p:nvSpPr>
        <p:spPr>
          <a:xfrm>
            <a:off x="9732600" y="5882760"/>
            <a:ext cx="114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orbe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 type="ftr" idx="14"/>
          </p:nvPr>
        </p:nvSpPr>
        <p:spPr>
          <a:xfrm>
            <a:off x="2571840" y="5882760"/>
            <a:ext cx="70848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 type="sldNum" idx="15"/>
          </p:nvPr>
        </p:nvSpPr>
        <p:spPr>
          <a:xfrm>
            <a:off x="10952280" y="5882760"/>
            <a:ext cx="5508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7F66A-5378-42D9-BB09-D9BFDC1723EB}" type="slidenum">
              <a:rPr b="0" lang="ru-RU" sz="10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a666e1"/>
            </a:gs>
            <a:gs pos="100000">
              <a:srgbClr val="c1e6f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046240" y="360000"/>
            <a:ext cx="8734320" cy="71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ru-RU" sz="2000" spc="-1" strike="noStrike"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2974680" y="1589040"/>
            <a:ext cx="769284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4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ект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indent="0" algn="ctr">
              <a:lnSpc>
                <a:spcPct val="80000"/>
              </a:lnSpc>
              <a:spcBef>
                <a:spcPts val="64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Правила дорожные детям знать положено»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indent="0" algn="r">
              <a:lnSpc>
                <a:spcPct val="80000"/>
              </a:lnSpc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           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                                  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ители : 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indent="0" algn="r">
              <a:lnSpc>
                <a:spcPct val="80000"/>
              </a:lnSpc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тели: Мустафаева Л.Т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indent="0" algn="r">
              <a:lnSpc>
                <a:spcPct val="80000"/>
              </a:lnSpc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гомедова И.Р.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indent="0" algn="r">
              <a:lnSpc>
                <a:spcPct val="80000"/>
              </a:lnSpc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indent="0" algn="r">
              <a:lnSpc>
                <a:spcPct val="80000"/>
              </a:lnSpc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indent="0" algn="r">
              <a:lnSpc>
                <a:spcPct val="80000"/>
              </a:lnSpc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indent="0" algn="ctr">
              <a:lnSpc>
                <a:spcPct val="80000"/>
              </a:lnSpc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.Южно-Сухокумск     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246" name="Рисунок 3" descr=""/>
          <p:cNvPicPr/>
          <p:nvPr/>
        </p:nvPicPr>
        <p:blipFill>
          <a:blip r:embed="rId1"/>
          <a:stretch/>
        </p:blipFill>
        <p:spPr>
          <a:xfrm>
            <a:off x="870120" y="2573280"/>
            <a:ext cx="2352600" cy="2706840"/>
          </a:xfrm>
          <a:prstGeom prst="rect">
            <a:avLst/>
          </a:prstGeom>
          <a:ln w="0">
            <a:noFill/>
          </a:ln>
        </p:spPr>
      </p:pic>
    </p:spTree>
  </p:cSld>
  <p:transition spd="slow" advTm="20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2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2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2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2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2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2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сультация для родителей в папке-передвижке «Дорожная азбука»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264" name="Объект 3" descr=""/>
          <p:cNvPicPr/>
          <p:nvPr/>
        </p:nvPicPr>
        <p:blipFill>
          <a:blip r:embed="rId1"/>
          <a:srcRect l="0" t="0" r="-138" b="25190"/>
          <a:stretch/>
        </p:blipFill>
        <p:spPr>
          <a:xfrm>
            <a:off x="3344760" y="2406600"/>
            <a:ext cx="6462720" cy="33210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fade/>
  </p:transition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голок по безопасности  в группе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             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267" name="Picture 4" descr="C:\Users\Админ\Desktop\IMG-20200205-WA0001.jpg"/>
          <p:cNvPicPr/>
          <p:nvPr/>
        </p:nvPicPr>
        <p:blipFill>
          <a:blip r:embed="rId1"/>
          <a:stretch/>
        </p:blipFill>
        <p:spPr>
          <a:xfrm>
            <a:off x="3597120" y="2233440"/>
            <a:ext cx="5643720" cy="366264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fade/>
  </p:transition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формление зала к игре-путешествию    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«В страну дорожных знаков»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270" name="Picture 4" descr="C:\Users\Админ\Desktop\IMG-20200205-WA0011.jpg"/>
          <p:cNvPicPr/>
          <p:nvPr/>
        </p:nvPicPr>
        <p:blipFill>
          <a:blip r:embed="rId1"/>
          <a:stretch/>
        </p:blipFill>
        <p:spPr>
          <a:xfrm>
            <a:off x="3789360" y="2570040"/>
            <a:ext cx="6027840" cy="381816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fade/>
  </p:transition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юри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273" name="Picture 4" descr="C:\Users\Админ\Desktop\IMG-20200205-WA0000.jpg"/>
          <p:cNvPicPr/>
          <p:nvPr/>
        </p:nvPicPr>
        <p:blipFill>
          <a:blip r:embed="rId1"/>
          <a:stretch/>
        </p:blipFill>
        <p:spPr>
          <a:xfrm>
            <a:off x="3876840" y="2303640"/>
            <a:ext cx="5580000" cy="340488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fade/>
  </p:transition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анда «Светофорики»  и «Дорожные знаки»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276" name="Picture 4" descr="C:\Users\Админ\Desktop\IMG-20200205-WA0008.jpg"/>
          <p:cNvPicPr/>
          <p:nvPr/>
        </p:nvPicPr>
        <p:blipFill>
          <a:blip r:embed="rId1"/>
          <a:stretch/>
        </p:blipFill>
        <p:spPr>
          <a:xfrm>
            <a:off x="4054320" y="2443320"/>
            <a:ext cx="5354640" cy="350028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fade/>
  </p:transition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бегает «Шапокляк»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279" name="Picture 4" descr="C:\Users\Админ\Desktop\IMG-20200205-WA0012.jpg"/>
          <p:cNvPicPr/>
          <p:nvPr/>
        </p:nvPicPr>
        <p:blipFill>
          <a:blip r:embed="rId1"/>
          <a:stretch/>
        </p:blipFill>
        <p:spPr>
          <a:xfrm>
            <a:off x="3643200" y="2189160"/>
            <a:ext cx="5921640" cy="397044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fade/>
  </p:transition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Светофор» принёс письмо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проблемными ситуациями на дороге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282" name="Picture 4" descr="C:\Users\Админ\Desktop\IMG-20200205-WA0010.jpg"/>
          <p:cNvPicPr/>
          <p:nvPr/>
        </p:nvPicPr>
        <p:blipFill>
          <a:blip r:embed="rId1"/>
          <a:stretch/>
        </p:blipFill>
        <p:spPr>
          <a:xfrm>
            <a:off x="3589200" y="2104920"/>
            <a:ext cx="5824800" cy="392292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fade/>
  </p:transition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вижная игра «Светофорчики»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285" name="Picture 4" descr="C:\Users\Админ\Desktop\IMG-20200205-WA0003.jpg"/>
          <p:cNvPicPr/>
          <p:nvPr/>
        </p:nvPicPr>
        <p:blipFill>
          <a:blip r:embed="rId1"/>
          <a:stretch/>
        </p:blipFill>
        <p:spPr>
          <a:xfrm>
            <a:off x="3895560" y="1996920"/>
            <a:ext cx="5235840" cy="357372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fade/>
  </p:transition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 txBox="1"/>
          <p:nvPr/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287" name="Picture 4" descr="C:\Users\Админ\Desktop\IMG-20200205-WA0007.jpg"/>
          <p:cNvPicPr/>
          <p:nvPr/>
        </p:nvPicPr>
        <p:blipFill>
          <a:blip r:embed="rId1"/>
          <a:stretch/>
        </p:blipFill>
        <p:spPr>
          <a:xfrm>
            <a:off x="3657600" y="2089080"/>
            <a:ext cx="5907240" cy="3998880"/>
          </a:xfrm>
          <a:prstGeom prst="rect">
            <a:avLst/>
          </a:prstGeom>
          <a:ln w="0">
            <a:noFill/>
          </a:ln>
        </p:spPr>
      </p:pic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rbel"/>
              </a:rPr>
              <a:t>Песня «Яркие огоньки»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 advTm="8000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зентацию проекта подготовили воспитатели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устафаеваЛ.Т. Магомедова И.Р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 advTm="8000">
    <p:fade/>
  </p:transition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584360" y="407880"/>
            <a:ext cx="9918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ru-RU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1450440" y="1088640"/>
            <a:ext cx="10052280" cy="514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 проекта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лгосрочный, познавательно-исследовательский 5-6лет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должительность проекта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 месяцев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стники проекта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ети старшей группы, родители группы, воспитатели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овательные области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ействованы все образовательные области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 advTm="20000">
    <p:fade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2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2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2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84280" y="231480"/>
            <a:ext cx="10018800" cy="77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лючительное слово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1484280" y="2414520"/>
            <a:ext cx="10018800" cy="2913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0000"/>
          </a:bodyPr>
          <a:p>
            <a:pPr marL="199800" indent="-19980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беждена, что метод проектирования - это технология включающая комплексную деятельность, которая даёт положительные результаты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199800" indent="-19980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роцессе проекта «Правила дорожные детям знать положено» смогли заинтересовать родителей и их детей к совместной деятельности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199800" indent="-199800" algn="ctr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этому проект может быть рекомендован как воспитателям ДОУ так и родителям, так как он является необходимым звеном по профилактике ДДТТ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199800" indent="-199800" algn="ctr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частья, здоровья вам и вашим детям!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 advTm="25000">
    <p:fade/>
  </p:transition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1000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1000"/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1000"/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1000"/>
                                        <p:tgtEl>
                                          <p:spTgt spid="2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2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2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89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уальность проекта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1484280" y="1584360"/>
            <a:ext cx="10018800" cy="427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циальная острота проблемы диктует необходимость поиска новых форм и методов воспитания обучения по профилактике детского дорожно-транспортного травматизма, проведению профилактической работы с детьми и родителями воспитанников на основе современных педагогических технологий таких как проектная деятельность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 advTm="25000">
    <p:fade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484280" y="685440"/>
            <a:ext cx="10018800" cy="103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 проекта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1484280" y="1719360"/>
            <a:ext cx="10018800" cy="425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ние максимально эффективных условий для детей старшего дошкольного возраста по формированию элементарных правил дорожно-транспортной безопасности в ходе реализации проекта «Правила дорожные детям знать положено» посредствам включения родителей воспитанников в образовательную деятельность, направленную на расширение и закрепление знаний воспитанников и их родителей ПДД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 advTm="29000">
    <p:fade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84280" y="267840"/>
            <a:ext cx="10018800" cy="96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 проекта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1484280" y="1669680"/>
            <a:ext cx="10018800" cy="518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lnSpc>
                <a:spcPct val="150000"/>
              </a:lnSpc>
              <a:spcBef>
                <a:spcPts val="499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е у детей навыков безопасного поведения и развития познавательных процессов необходимых для правильной ориентации на дороге;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150000"/>
              </a:lnSpc>
              <a:spcBef>
                <a:spcPts val="499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адить партнёрские взаимоотношения педагогов и родителей;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150000"/>
              </a:lnSpc>
              <a:spcBef>
                <a:spcPts val="499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ть представление о правилах поведения пешехода на улицах города;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150000"/>
              </a:lnSpc>
              <a:spcBef>
                <a:spcPts val="499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у детей способности к предвидению возможной опасности в конкретно меняющейся ситуации и построению адекватного безопасного поведения на дороге; ;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150000"/>
              </a:lnSpc>
              <a:spcBef>
                <a:spcPts val="499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репить с детьми знаний правил уличного движения;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150000"/>
              </a:lnSpc>
              <a:spcBef>
                <a:spcPts val="425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учить ребёнка ориентироваться в дорожных ситуациях на пути движения в детский сад и обратно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80000"/>
              </a:lnSpc>
              <a:spcBef>
                <a:spcPts val="425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80000"/>
              </a:lnSpc>
              <a:spcBef>
                <a:spcPts val="425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80000"/>
              </a:lnSpc>
              <a:spcBef>
                <a:spcPts val="425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 advTm="28000">
    <p:fade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1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полагаемый результат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1484280" y="1816200"/>
            <a:ext cx="10018800" cy="397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ние оптимальных и необходимых условий для организации совместной деятельности с родителями по профилактике детского дорожно-транспортного травматизма ДДТТ 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Формирование у детей элементарных норм и правил дорожно-транспортной безопасности ;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витие  дошкольникам  умения ориентироваться в дорожных ситуациях на пути движения в детский сад и обратно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 advTm="25000">
    <p:fade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84280" y="450360"/>
            <a:ext cx="10018800" cy="108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нотация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1484280" y="1536480"/>
            <a:ext cx="10018800" cy="469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ланированные мероприятия проводятся в непосредственной образовательной деятельности, в совместной деятельности воспитателей и детей  в виде:  бесед, викторин, выставок детских работ по ПДД, наблюдений за движением транспорта, чтение художественной литературы, отгадывания загадок, кроссвордов;  развивающие, познавательные, сюжетно-ролевые, подвижные игры, оформление уголка по «Правилам дорожного движения», разработка и использование маршрута «Дом – детский сад» совместно с родителями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 advTm="28000">
    <p:fade/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 реализации проекта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1350720" y="2255400"/>
            <a:ext cx="10018440" cy="441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сматривание плакатов по безопасности дорожного движения с детьми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курс на лучший рисунок по ПДД «Светофорик» совместно с родителями на тему «Я пешеход»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работка с родителями и использование маршрута «Дом – детский сад»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дение занятий по ПДД, дидактических, сюжетно-ролевых игр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а путешествие « В страну дорожных знаков»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ение произведений по тематике ПДД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ормационные стенды для родителей по ПДД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 advTm="25000">
    <p:fade/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2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2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2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2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2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2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тавка  детских работ по ПДД «Светофорик»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262" name="Объект 3" descr=""/>
          <p:cNvPicPr/>
          <p:nvPr/>
        </p:nvPicPr>
        <p:blipFill>
          <a:blip r:embed="rId1"/>
          <a:srcRect l="17026" t="11927" r="14288" b="15937"/>
          <a:stretch/>
        </p:blipFill>
        <p:spPr>
          <a:xfrm>
            <a:off x="3452760" y="2070000"/>
            <a:ext cx="5965920" cy="34038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fade/>
  </p:transition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6T15:34:29Z</dcterms:created>
  <dc:creator>1</dc:creator>
  <dc:description/>
  <dc:language>en-US</dc:language>
  <cp:lastModifiedBy>Админ</cp:lastModifiedBy>
  <dcterms:modified xsi:type="dcterms:W3CDTF">2020-02-05T19:20:39Z</dcterms:modified>
  <cp:revision>123</cp:revision>
  <dc:subject/>
  <dc:title>Муниципальное бюджетное дошкольное образовательное учреждение «Новокараканский детский сад комбинированного вида»</dc:title>
</cp:coreProperties>
</file>