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B7A-2F46-4D77-ACC1-CD51C731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8A6-59AD-4676-9256-48F1D602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A2B-ED70-4DB8-BF60-1DE4A6A5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E85-8AD2-4409-A905-5907B3D2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FF0B-31C4-413F-999A-7915EBE7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3D86-4A64-40D1-B03E-AD00DEC4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F800-BF84-4FD8-BB44-6559754E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FA25-13E9-4FED-B39B-AD3CCAEB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DD31-5484-4171-9634-FEC443AB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52AA-9312-4F44-B522-E27E8623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1158-17BD-4B6B-9239-CE9E6D6A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C6C-E52C-4245-A8A0-3AD2F28E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C36C-9298-4100-BC37-41B1E007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D7DF-BA03-43D6-A659-BDCA1DD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B6D3-9917-4147-A4D1-1F2AA9FB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0532-8ABD-4EF6-8B40-1E985195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ED4F-EB4D-4B98-AE5E-DAE0666B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8B43-57D4-4EFD-B343-58038DFF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6351F-87DA-46F3-B29E-1D521958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B221-F0FE-463D-8E1E-A3014385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92F3-BB06-4B52-BA2A-842D6987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E7FB-11DC-4211-8FE8-DF23AD57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E8A-468A-42C0-869A-8EDC5847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BAB0-EF03-433E-A280-42B4404E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4E83-4972-49F9-8E4B-A798DB4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0C06-3464-44F8-8622-60336649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F63B-7B2C-44F8-8DB5-9F5A0A1A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6B13-C08E-4CBA-841E-2BC912D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6E46-1925-49CA-B54D-FD81F3E5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82BD-A625-4586-8ADE-63AEBC02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FAD1-D6B9-4B64-BB26-16B6C2BE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BC4D6-5349-4CCD-9498-B22DCB36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93306-2742-43A6-96E8-3EDBBCC7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453-400A-4FBB-8F16-3DAC606C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BA88-CB47-415D-88D1-59A8E1D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DCA8C-DC57-440F-9C3D-19EEE99D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F91E-0D89-4949-B8FF-D61CC2DC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3F0A4-1A36-44F4-94D7-F8DBDF9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6013-CDF8-4017-BC9C-7FE7618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B1FE3-FC8A-49A5-B3C9-CE246A2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BFCA-A738-4339-B3BC-AA003CC5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5A63D-8DE5-4C06-87B3-164D5968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B086-1E0B-4075-9E97-31D14BAB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18868-7FD7-4024-A0C2-AADB989F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EFD-E6A2-429F-9CE2-93861A6D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C4E9-924B-4EFC-A899-1E7D8DF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FD81-763E-4EF7-B2BA-6A0007EF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42FE-2799-4CC1-B3CF-78C59D58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2BB1-B1B0-4307-A4D3-D8707435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056A0-ABD6-4CF3-BE9B-D3714381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CE654-17A5-4867-97E7-8556EE4C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38BD1-073D-49C9-85FB-08282A5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B0C76-E183-40D8-A8D7-7C2CE06D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657A-2887-4BF0-AD00-3B3C3FA6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AB141-DA61-439A-B065-3AF1070E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B21-64EB-4456-979A-0B34FD5C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CF0B9-F461-433A-951C-D385250E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773-DE2F-449B-8E74-A6B5EC8F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B1A-FFF3-4DDD-A28D-D565BAAF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4D2-D6E1-4F89-AF10-DC4060C8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2B18-7B6B-41B8-9D22-C09CA0DE3869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19D1-5096-43DD-BA84-0A15F806A17D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E29E-74EC-45B4-8534-831BED52DFF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0F23-F13E-469A-A29E-6F99B36F950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403E-DA46-4366-9252-3229CDE6E028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66e1"/>
            </a:gs>
            <a:gs pos="100000">
              <a:srgbClr val="c1e6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46240" y="360000"/>
            <a:ext cx="873432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974680" y="1589040"/>
            <a:ext cx="76928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ила дорожные детям знать положено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и 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Мустафаева Л.Т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омедова И.Р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Южно-Сухокумск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870120" y="2573280"/>
            <a:ext cx="2352600" cy="2706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в папке-передвижке «Дорожная азбук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4" name="Объект 3" descr=""/>
          <p:cNvPicPr/>
          <p:nvPr/>
        </p:nvPicPr>
        <p:blipFill>
          <a:blip r:embed="rId1"/>
          <a:srcRect l="0" t="0" r="-138" b="25190"/>
          <a:stretch/>
        </p:blipFill>
        <p:spPr>
          <a:xfrm>
            <a:off x="3344760" y="2406600"/>
            <a:ext cx="6462720" cy="332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по безопасности  в групп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4" descr="C:\Users\Админ\Desktop\IMG-20200205-WA0001.jpg"/>
          <p:cNvPicPr/>
          <p:nvPr/>
        </p:nvPicPr>
        <p:blipFill>
          <a:blip r:embed="rId1"/>
          <a:stretch/>
        </p:blipFill>
        <p:spPr>
          <a:xfrm>
            <a:off x="3597120" y="2233440"/>
            <a:ext cx="5643720" cy="366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ла к игре-путешествию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 страну дорожных знаков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0" name="Picture 4" descr="C:\Users\Админ\Desktop\IMG-20200205-WA0011.jpg"/>
          <p:cNvPicPr/>
          <p:nvPr/>
        </p:nvPicPr>
        <p:blipFill>
          <a:blip r:embed="rId1"/>
          <a:stretch/>
        </p:blipFill>
        <p:spPr>
          <a:xfrm>
            <a:off x="3789360" y="2570040"/>
            <a:ext cx="6027840" cy="3818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юр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3" name="Picture 4" descr="C:\Users\Админ\Desktop\IMG-20200205-WA0000.jpg"/>
          <p:cNvPicPr/>
          <p:nvPr/>
        </p:nvPicPr>
        <p:blipFill>
          <a:blip r:embed="rId1"/>
          <a:stretch/>
        </p:blipFill>
        <p:spPr>
          <a:xfrm>
            <a:off x="3876840" y="2303640"/>
            <a:ext cx="5580000" cy="3404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ветофорики»  и «Дорожные зна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4" descr="C:\Users\Админ\Desktop\IMG-20200205-WA0008.jpg"/>
          <p:cNvPicPr/>
          <p:nvPr/>
        </p:nvPicPr>
        <p:blipFill>
          <a:blip r:embed="rId1"/>
          <a:stretch/>
        </p:blipFill>
        <p:spPr>
          <a:xfrm>
            <a:off x="4054320" y="2443320"/>
            <a:ext cx="535464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гает «Шапокляк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4" descr="C:\Users\Админ\Desktop\IMG-20200205-WA0012.jpg"/>
          <p:cNvPicPr/>
          <p:nvPr/>
        </p:nvPicPr>
        <p:blipFill>
          <a:blip r:embed="rId1"/>
          <a:stretch/>
        </p:blipFill>
        <p:spPr>
          <a:xfrm>
            <a:off x="3643200" y="2189160"/>
            <a:ext cx="5921640" cy="3970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офор» принёс письм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облемными ситуациями на дорог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4" descr="C:\Users\Админ\Desktop\IMG-20200205-WA0010.jpg"/>
          <p:cNvPicPr/>
          <p:nvPr/>
        </p:nvPicPr>
        <p:blipFill>
          <a:blip r:embed="rId1"/>
          <a:stretch/>
        </p:blipFill>
        <p:spPr>
          <a:xfrm>
            <a:off x="3589200" y="2104920"/>
            <a:ext cx="5824800" cy="392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 игра «Светофорчи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4" descr="C:\Users\Админ\Desktop\IMG-20200205-WA0003.jpg"/>
          <p:cNvPicPr/>
          <p:nvPr/>
        </p:nvPicPr>
        <p:blipFill>
          <a:blip r:embed="rId1"/>
          <a:stretch/>
        </p:blipFill>
        <p:spPr>
          <a:xfrm>
            <a:off x="3895560" y="1996920"/>
            <a:ext cx="5235840" cy="3573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7" name="Picture 4" descr="C:\Users\Админ\Desktop\IMG-20200205-WA0007.jpg"/>
          <p:cNvPicPr/>
          <p:nvPr/>
        </p:nvPicPr>
        <p:blipFill>
          <a:blip r:embed="rId1"/>
          <a:stretch/>
        </p:blipFill>
        <p:spPr>
          <a:xfrm>
            <a:off x="3657600" y="2089080"/>
            <a:ext cx="5907240" cy="3998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есня «Яркие огоньк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роекта подготовили воспитате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стафаеваЛ.Т. Магомедова И.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84360" y="407880"/>
            <a:ext cx="991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50440" y="1088640"/>
            <a:ext cx="1005228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, познавательно-исследовательский 5-6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есяце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таршей группы, родители группы, воспит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ны все образовательные обла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231480"/>
            <a:ext cx="10018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е с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84280" y="2414520"/>
            <a:ext cx="1001880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а, что метод проектирования - это технология включающая комплексную деятельность, которая даёт положительные результа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роекта «Правила дорожные детям знать положено» смогли заинтересовать родителей и их детей к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оект может быть рекомендован как воспитателям ДОУ так и родителям, так как он является необходимым звеном по профилактике ДДТ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я, здоровья вам и вашим детям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1584360"/>
            <a:ext cx="10018800" cy="42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острота проблемы диктует необходимость поиска новых форм и методов воспитания обучения по профилактике детского дорожно-транспортного травматизма, проведению профилактической работы с детьми и родителями воспитанников на основе современных педагогических технологий таких как 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1719360"/>
            <a:ext cx="10018800" cy="42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аксимально эффективных условий для детей старшего дошкольного возраста по формированию элементарных правил дорожно-транспортной безопасности в ходе реализации проекта «Правила дорожные детям знать положено» посредствам включения родителей воспитанников в образовательную деятельность, направленную на расширение и закрепление знаний воспитанников и их родителей ПД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9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267840"/>
            <a:ext cx="10018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1669680"/>
            <a:ext cx="10018800" cy="51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навыков безопасного поведения и развития познавательных процессов необходимых для правильной ориентации на дорог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дить партнёрские взаимоотношения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правилах поведения пешехода на улицах город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способности к предвидению возможной опасности в конкретно меняющейся ситуации и построению адекватного безопасного поведения на дороге; 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с детьми знаний правил уличного движ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ёнка ориентироваться в дорожных ситуациях на пути движения в детский сад и обратн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84280" y="1816200"/>
            <a:ext cx="100188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и необходимых условий для организации совместной деятельности с родителями по профилактике детского дорожно-транспортного травматизма ДДТТ 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Формирование у детей элементарных норм и правил дорожно-транспортной безопасности 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 дошкольникам  умения ориентироваться в дорожных ситуациях на пути движения в детский сад и обрат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450360"/>
            <a:ext cx="100188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1536480"/>
            <a:ext cx="10018800" cy="46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нные мероприятия проводятся в непосредственной образовательной деятельности, в совместной деятельности воспитателей и детей  в виде:  бесед, викторин, выставок детских работ по ПДД, наблюдений за движением транспорта, чтение художественной литературы, отгадывания загадок, кроссвордов;  развивающие, познавательные, сюжетно-ролевые, подвижные игры, оформление уголка по «Правилам дорожного движения», разработка и использование маршрута «Дом – детский сад»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еализации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50720" y="2255400"/>
            <a:ext cx="1001844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плакатов по безопасности дорожного движения с деть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на лучший рисунок по ПДД «Светофорик» совместно с родителями на тему «Я пешехо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 родителями и использование маршрута «Дом – детский са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занятий по ПДД, дидактических, сюжетно-ролевых иг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утешествие « В страну дорожных знаков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 по тематике ПД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тенды для родителей по ПД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 детских работ по ПДД «Светофори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rcRect l="17026" t="11927" r="14288" b="15937"/>
          <a:stretch/>
        </p:blipFill>
        <p:spPr>
          <a:xfrm>
            <a:off x="3452760" y="2070000"/>
            <a:ext cx="5965920" cy="340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5:34:29Z</dcterms:created>
  <dc:creator>1</dc:creator>
  <dc:description/>
  <dc:language>en-US</dc:language>
  <cp:lastModifiedBy>Админ</cp:lastModifiedBy>
  <dcterms:modified xsi:type="dcterms:W3CDTF">2020-02-05T19:20:39Z</dcterms:modified>
  <cp:revision>123</cp:revision>
  <dc:subject/>
  <dc:title>Муниципальное бюджетное дошкольное образовательное учреждение «Новокараканский детский сад комбинированного вида»</dc:title>
</cp:coreProperties>
</file>