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EDC-4FD3-4A80-9AE9-344455AE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BA0-A979-4C6F-A787-495C3A2B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47C-6912-4BDC-B80D-A695FB39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5DC-6B3B-49BB-9F0C-589C4BA0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F591-7C04-4A63-BC69-BDF65894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70F8-3EA5-4DA8-B679-98BA8F8E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64EA-7352-470E-A903-5DA8A716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D138-A141-43E4-851D-33EA196A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B1D9-ED4F-4E5B-9663-87B13022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260E-D10D-4199-8CF2-21FA520B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D119-3E1D-434A-BE99-B2CC49CA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7B7-B1D0-4FEF-837B-10090441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C0A7-FABA-4517-ABDA-07238159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EA1F-D490-4F07-B83B-61AFCC5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19C1-F25D-410E-AFE7-B5308E86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4E8F-2384-4065-B254-7AC84DD4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CF8D-7AE5-4F24-87CF-3BF319B4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E714-4D95-4938-AF5B-D9BBDA69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A392-4755-4106-893A-E47AB3AE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0EED-7FEB-4BFA-9DE9-18C52E56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70E3-838F-4E5D-B5B7-B9854ECA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EC90-C4BC-4EA8-8B62-051660B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65A-D7BA-444B-9C4A-E2528478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E79BB-0FA1-4901-9F76-9F7AFC9B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FC89-A658-4475-851C-C3F64AA6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0187-7F56-4E57-A3CF-4F4350AD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DCE7-C647-47F2-97E7-312C6800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E620-56ED-4EE9-9EE3-B7BB32C9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7C12C-DACE-4AFB-AECA-733706E1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46DE-8F60-4E52-AE77-792EFA4B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AF4A-EB82-4F99-BA29-9A6F0B56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74B8-698C-4D53-9B3D-2DC3FF20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8C449-04EB-43B8-A24C-4628B30E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B95-8DA3-4875-A134-04CEC47A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54B11-E95B-4E74-8537-032C977B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FE41-0A97-40E4-8496-C70DA1D5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1E95-1BCB-4706-B044-57578149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BF98-B969-40CA-9F73-A636DF28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ACF36-B917-406D-957F-1CE8ADE0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F30F-E859-46ED-8B69-4090CD8B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87911-D61F-4585-8A9E-2A64AEC1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CCAC-11FD-4E6F-B738-BD696981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00BF-0517-4D28-8BFC-B4FB191F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C0D58-8EFB-4AF5-8F77-6F526DF0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70F-1BFB-4A6C-AED1-38164E9F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4A72-B00C-473E-B07A-273E0FB9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D937F-0653-413F-A13D-D5633E64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19DD9-15FF-4B91-AFF8-1FBCE4C5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2370-BA56-4FCD-8CA6-006652A9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FD336-8C09-4434-952F-23CAD769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2FC4-A32F-4D3D-8FBF-AECC8F9C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41C9E-EC6B-4D18-8445-A6BE1229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6D04-8E26-4A52-ADC4-703F97C6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8BFFD-73A2-4A3C-ABD0-85C2D291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3A4D-7D20-4270-978D-0E1DDC0C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56C-C71D-4E10-B62C-3006B04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C23AE-FFBB-4DAB-877F-E7200E9E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D15-7CAA-418B-B221-02EE3EF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29F-28FF-4DAC-8C44-DCE5A594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668-8082-486F-AF3C-CAD0258D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1D28-AFEB-49FD-8433-E82E906FDFB1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701F-B718-4E25-9350-267B1C5A5F33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A737-F531-4DCE-B976-EB8BF62DC7A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6B3D-26DB-4EA4-890A-93D0E63125F2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1C20-DF75-40EB-A10E-C17A65382747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66e1"/>
            </a:gs>
            <a:gs pos="100000">
              <a:srgbClr val="c1e6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46240" y="360000"/>
            <a:ext cx="873432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974680" y="1589040"/>
            <a:ext cx="76928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ила дорожные детям знать положено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и 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Мустафаева Л.Т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омедова И.Р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Южно-Сухокумск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870120" y="2573280"/>
            <a:ext cx="2352600" cy="2706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в папке-передвижке «Дорожная азбук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4" name="Объект 3" descr=""/>
          <p:cNvPicPr/>
          <p:nvPr/>
        </p:nvPicPr>
        <p:blipFill>
          <a:blip r:embed="rId1"/>
          <a:srcRect l="0" t="0" r="-138" b="25190"/>
          <a:stretch/>
        </p:blipFill>
        <p:spPr>
          <a:xfrm>
            <a:off x="3344760" y="2406600"/>
            <a:ext cx="6462720" cy="332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по безопасности  в групп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4" descr="C:\Users\Админ\Desktop\IMG-20200205-WA0001.jpg"/>
          <p:cNvPicPr/>
          <p:nvPr/>
        </p:nvPicPr>
        <p:blipFill>
          <a:blip r:embed="rId1"/>
          <a:stretch/>
        </p:blipFill>
        <p:spPr>
          <a:xfrm>
            <a:off x="3597120" y="2233440"/>
            <a:ext cx="5643720" cy="3662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ла к игре-путешествию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В страну дорожных знаков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0" name="Picture 4" descr="C:\Users\Админ\Desktop\IMG-20200205-WA0011.jpg"/>
          <p:cNvPicPr/>
          <p:nvPr/>
        </p:nvPicPr>
        <p:blipFill>
          <a:blip r:embed="rId1"/>
          <a:stretch/>
        </p:blipFill>
        <p:spPr>
          <a:xfrm>
            <a:off x="3789360" y="2570040"/>
            <a:ext cx="6027840" cy="3818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юр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3" name="Picture 4" descr="C:\Users\Админ\Desktop\IMG-20200205-WA0000.jpg"/>
          <p:cNvPicPr/>
          <p:nvPr/>
        </p:nvPicPr>
        <p:blipFill>
          <a:blip r:embed="rId1"/>
          <a:stretch/>
        </p:blipFill>
        <p:spPr>
          <a:xfrm>
            <a:off x="3876840" y="2303640"/>
            <a:ext cx="5580000" cy="3404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ветофорики»  и «Дорожные зна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4" descr="C:\Users\Админ\Desktop\IMG-20200205-WA0008.jpg"/>
          <p:cNvPicPr/>
          <p:nvPr/>
        </p:nvPicPr>
        <p:blipFill>
          <a:blip r:embed="rId1"/>
          <a:stretch/>
        </p:blipFill>
        <p:spPr>
          <a:xfrm>
            <a:off x="4054320" y="2443320"/>
            <a:ext cx="5354640" cy="350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гает «Шапокляк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4" descr="C:\Users\Админ\Desktop\IMG-20200205-WA0012.jpg"/>
          <p:cNvPicPr/>
          <p:nvPr/>
        </p:nvPicPr>
        <p:blipFill>
          <a:blip r:embed="rId1"/>
          <a:stretch/>
        </p:blipFill>
        <p:spPr>
          <a:xfrm>
            <a:off x="3643200" y="2189160"/>
            <a:ext cx="5921640" cy="3970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тофор» принёс письм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облемными ситуациями на дорог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Picture 4" descr="C:\Users\Админ\Desktop\IMG-20200205-WA0010.jpg"/>
          <p:cNvPicPr/>
          <p:nvPr/>
        </p:nvPicPr>
        <p:blipFill>
          <a:blip r:embed="rId1"/>
          <a:stretch/>
        </p:blipFill>
        <p:spPr>
          <a:xfrm>
            <a:off x="3589200" y="2104920"/>
            <a:ext cx="5824800" cy="392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ая игра «Светофорчи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Picture 4" descr="C:\Users\Админ\Desktop\IMG-20200205-WA0003.jpg"/>
          <p:cNvPicPr/>
          <p:nvPr/>
        </p:nvPicPr>
        <p:blipFill>
          <a:blip r:embed="rId1"/>
          <a:stretch/>
        </p:blipFill>
        <p:spPr>
          <a:xfrm>
            <a:off x="3895560" y="1996920"/>
            <a:ext cx="5235840" cy="3573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7" name="Picture 4" descr="C:\Users\Админ\Desktop\IMG-20200205-WA0007.jpg"/>
          <p:cNvPicPr/>
          <p:nvPr/>
        </p:nvPicPr>
        <p:blipFill>
          <a:blip r:embed="rId1"/>
          <a:stretch/>
        </p:blipFill>
        <p:spPr>
          <a:xfrm>
            <a:off x="3657600" y="2089080"/>
            <a:ext cx="5907240" cy="3998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есня «Яркие огоньк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роекта подготовили воспитате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стафаеваЛ.Т. Магомедова И.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84360" y="407880"/>
            <a:ext cx="991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50440" y="1088640"/>
            <a:ext cx="1005228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, познавательно-исследовательский 5-6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есяце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старшей группы, родители группы, воспит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блас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ны все образовательные обла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0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231480"/>
            <a:ext cx="10018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ое сло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84280" y="2414520"/>
            <a:ext cx="1001880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а, что метод проектирования - это технология включающая комплексную деятельность, которая даёт положительные результа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роекта «Правила дорожные детям знать положено» смогли заинтересовать родителей и их детей к совместной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оект может быть рекомендован как воспитателям ДОУ так и родителям, так как он является необходимым звеном по профилактике ДДТ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я, здоровья вам и вашим детям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1584360"/>
            <a:ext cx="10018800" cy="42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острота проблемы диктует необходимость поиска новых форм и методов воспитания обучения по профилактике детского дорожно-транспортного травматизма, проведению профилактической работы с детьми и родителями воспитанников на основе современных педагогических технологий таких как 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1719360"/>
            <a:ext cx="10018800" cy="42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аксимально эффективных условий для детей старшего дошкольного возраста по формированию элементарных правил дорожно-транспортной безопасности в ходе реализации проекта «Правила дорожные детям знать положено» посредствам включения родителей воспитанников в образовательную деятельность, направленную на расширение и закрепление знаний воспитанников и их родителей ПД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9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267840"/>
            <a:ext cx="10018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84280" y="1669680"/>
            <a:ext cx="10018800" cy="518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навыков безопасного поведения и развития познавательных процессов необходимых для правильной ориентации на дорог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дить партнёрские взаимоотношения педагогов и родителе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правилах поведения пешехода на улицах город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способности к предвидению возможной опасности в конкретно меняющейся ситуации и построению адекватного безопасного поведения на дороге; 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с детьми знаний правил уличного движ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ебёнка ориентироваться в дорожных ситуациях на пути движения в детский сад и обратн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84280" y="1816200"/>
            <a:ext cx="100188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тимальных и необходимых условий для организации совместной деятельности с родителями по профилактике детского дорожно-транспортного травматизма ДДТТ 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Формирование у детей элементарных норм и правил дорожно-транспортной безопасности 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 дошкольникам  умения ориентироваться в дорожных ситуациях на пути движения в детский сад и обрат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4280" y="450360"/>
            <a:ext cx="100188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84280" y="1536480"/>
            <a:ext cx="10018800" cy="46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ованные мероприятия проводятся в непосредственной образовательной деятельности, в совместной деятельности воспитателей и детей  в виде:  бесед, викторин, выставок детских работ по ПДД, наблюдений за движением транспорта, чтение художественной литературы, отгадывания загадок, кроссвордов;  развивающие, познавательные, сюжетно-ролевые, подвижные игры, оформление уголка по «Правилам дорожного движения», разработка и использование маршрута «Дом – детский сад»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еализации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50720" y="2255400"/>
            <a:ext cx="1001844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плакатов по безопасности дорожного движения с деть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на лучший рисунок по ПДД «Светофорик» совместно с родителями на тему «Я пешехо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 родителями и использование маршрута «Дом – детский са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занятий по ПДД, дидактических, сюжетно-ролевых иг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утешествие « В страну дорожных знаков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 по тематике ПДД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тенды для родителей по ПД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 детских работ по ПДД «Светофори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rcRect l="17026" t="11927" r="14288" b="15937"/>
          <a:stretch/>
        </p:blipFill>
        <p:spPr>
          <a:xfrm>
            <a:off x="3452760" y="2070000"/>
            <a:ext cx="5965920" cy="340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5:34:29Z</dcterms:created>
  <dc:creator>1</dc:creator>
  <dc:description/>
  <dc:language>en-US</dc:language>
  <cp:lastModifiedBy>Админ</cp:lastModifiedBy>
  <dcterms:modified xsi:type="dcterms:W3CDTF">2020-02-05T19:20:39Z</dcterms:modified>
  <cp:revision>123</cp:revision>
  <dc:subject/>
  <dc:title>Муниципальное бюджетное дошкольное образовательное учреждение «Новокараканский детский сад комбинированного вида»</dc:title>
</cp:coreProperties>
</file>